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8A467-98FB-4A57-AF77-CAACFD2E4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610BF-9636-42D8-A436-187A545B4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8A2AA-E853-4E5E-904D-0DD4FFC85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E1CAF-2E6A-4346-949C-7072AAA01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B31FB-DEE6-4183-B2D3-EFBA7332C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85E40-D7F3-4C75-A44F-6479512EE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FE089-44B7-4E73-AF98-A8DD7EC9E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CA0AD-8EC6-4BF0-AA3C-D30925188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CF3BD-AAA1-4B13-95FD-F60EAD32F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0399E-71A2-4DD2-89FD-75007E419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F3B08-8511-451E-B1AC-F1EF78E4F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BAA11-B040-41EA-8041-00C1534CA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9CA29-1701-48ED-9237-0472C422B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D946E-9F55-444F-8C2C-2FE6A31AE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A6CD3-1952-4444-94DD-8FA71DA43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CFEB5-360B-432C-9EC6-408F7D22D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2FB3F-852A-4903-B9EC-459D4E393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52994-25EA-4DE4-921C-FAC2293E7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55891-2AE5-4226-8566-7A5EDDB7A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F6AA-1153-415C-B57A-CFEEE635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A02D3-EA83-4AB7-8810-D0F077B7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2CEE-5352-4F11-B258-5B113FA43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E8B0-2B45-422F-9EB5-3916964E8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FFC67-D224-4A70-BE86-5C2A504EC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152280"/>
              <a:ext cx="8534520" cy="1219320"/>
            </a:xfrm>
            <a:prstGeom prst="pie">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1219320"/>
              <a:ext cx="8077320" cy="0"/>
            </a:xfrm>
            <a:prstGeom prst="line">
              <a:avLst/>
            </a:prstGeom>
            <a:ln w="38160">
              <a:solidFill>
                <a:srgbClr val="35441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0897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08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EB38-B402-4DC9-B1D9-0C5430D5DD7F}"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228600" y="927000"/>
              <a:ext cx="7162920" cy="990720"/>
            </a:xfrm>
            <a:prstGeom prst="rect">
              <a:avLst/>
            </a:prstGeom>
            <a:solidFill>
              <a:srgbClr val="354418"/>
            </a:solidFill>
            <a:ln w="5724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0" y="1384200"/>
              <a:ext cx="8991720" cy="1828800"/>
            </a:xfrm>
            <a:prstGeom prst="pie">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0" y="3060720"/>
              <a:ext cx="8305920" cy="0"/>
            </a:xfrm>
            <a:prstGeom prst="line">
              <a:avLst/>
            </a:prstGeom>
            <a:ln w="50760">
              <a:solidFill>
                <a:srgbClr val="35441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B69B-8BE8-4F38-85EF-BCA7B0B3F64D}"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80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 journey to the preservation of balance Ecosystem</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padan, Mia Rose S.</a:t>
            </a:r>
            <a:endParaRPr b="0" lang="en-US" sz="3200" spc="-1" strike="noStrike">
              <a:solidFill>
                <a:srgbClr val="ffffff"/>
              </a:solidFill>
              <a:latin typeface="Arial"/>
            </a:endParaRPr>
          </a:p>
          <a:p>
            <a:pPr lvl="1"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Effect filter="fade" transition="in">
                                      <p:cBhvr additive="repl">
                                        <p:cTn id="9" dur="500"/>
                                        <p:tgtEl>
                                          <p:spTgt spid="9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 calcmode="lin" valueType="num">
                                      <p:cBhvr additive="repl">
                                        <p:cTn id="14"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it summary</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unit, student will design and create a </a:t>
            </a:r>
            <a:r>
              <a:rPr b="1" i="1" lang="en-US" sz="2400" spc="-1" strike="noStrike">
                <a:solidFill>
                  <a:srgbClr val="ffffff"/>
                </a:solidFill>
                <a:latin typeface="Arial"/>
              </a:rPr>
              <a:t>brochure</a:t>
            </a:r>
            <a:r>
              <a:rPr b="0" lang="en-US" sz="2400" spc="-1" strike="noStrike">
                <a:solidFill>
                  <a:srgbClr val="ffffff"/>
                </a:solidFill>
                <a:latin typeface="Arial"/>
              </a:rPr>
              <a:t> where students will show through pictures and details or information how human activities can cause imbalance in our ecosystem (focusing on the human undesirable activities and on ways to prevent it). From their output, they can use information and facts that can support their concept. The brochure will show how actions of the human beings affect our ecosystem and students should also show the improvement of our ecosystem showing the differences then from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 the research, look and observe</a:t>
            </a:r>
            <a:endParaRPr b="0" lang="en-US" sz="38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pped with the knowledge and awareness on how to preserve balance life in ecosystem, students then will make a </a:t>
            </a:r>
            <a:r>
              <a:rPr b="0" lang="en-US" sz="3200" spc="-1" strike="noStrike" u="sng">
                <a:solidFill>
                  <a:srgbClr val="ffffff"/>
                </a:solidFill>
                <a:uFillTx/>
                <a:latin typeface="Arial"/>
              </a:rPr>
              <a:t>Brochure</a:t>
            </a:r>
            <a:r>
              <a:rPr b="0" lang="en-US" sz="3200" spc="-1" strike="noStrike">
                <a:solidFill>
                  <a:srgbClr val="ffffff"/>
                </a:solidFill>
                <a:latin typeface="Arial"/>
              </a:rPr>
              <a:t> that will showcase their understanding and learning about the said top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you are going to be assessed</a:t>
            </a:r>
            <a:endParaRPr b="0" lang="en-US" sz="3800" spc="-1" strike="noStrike">
              <a:solidFill>
                <a:srgbClr val="ffffff"/>
              </a:solidFill>
              <a:latin typeface="Arial"/>
            </a:endParaRPr>
          </a:p>
        </p:txBody>
      </p:sp>
      <p:graphicFrame>
        <p:nvGraphicFramePr>
          <p:cNvPr id="98" name=""/>
          <p:cNvGraphicFramePr/>
          <p:nvPr/>
        </p:nvGraphicFramePr>
        <p:xfrm>
          <a:off x="457200" y="1600200"/>
          <a:ext cx="7924680" cy="3992400"/>
        </p:xfrm>
        <a:graphic>
          <a:graphicData uri="http://schemas.openxmlformats.org/drawingml/2006/table">
            <a:tbl>
              <a:tblPr/>
              <a:tblGrid>
                <a:gridCol w="2641680"/>
                <a:gridCol w="2641680"/>
                <a:gridCol w="26413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the project begin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projec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proj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4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la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 lo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ecdotal note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yboar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feedback</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o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bric for brochur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rriculum Framing Question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sential question</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we weigh things equally?</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cc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Question</a:t>
            </a:r>
            <a:endParaRPr b="0" lang="en-US" sz="2400" spc="-1" strike="noStrike">
              <a:solidFill>
                <a:srgbClr val="ffffff"/>
              </a:solidFill>
              <a:latin typeface="Arial"/>
            </a:endParaRPr>
          </a:p>
          <a:p>
            <a:pPr lvl="1" marL="743040" indent="-285840">
              <a:lnSpc>
                <a:spcPct val="80000"/>
              </a:lnSpc>
              <a:spcBef>
                <a:spcPts val="499"/>
              </a:spcBef>
              <a:buClr>
                <a:srgbClr val="60897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humans can cause imbalance in the environment?</a:t>
            </a:r>
            <a:endParaRPr b="0" lang="en-US" sz="2000" spc="-1" strike="noStrike">
              <a:solidFill>
                <a:srgbClr val="ffffff"/>
              </a:solidFill>
              <a:latin typeface="Arial"/>
            </a:endParaRPr>
          </a:p>
          <a:p>
            <a:pPr lvl="1" marL="743040" indent="-285840">
              <a:lnSpc>
                <a:spcPct val="80000"/>
              </a:lnSpc>
              <a:spcBef>
                <a:spcPts val="499"/>
              </a:spcBef>
              <a:buClr>
                <a:srgbClr val="60897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these human activities affect the environmen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cc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nt questions</a:t>
            </a:r>
            <a:endParaRPr b="0" lang="en-US" sz="2400" spc="-1" strike="noStrike">
              <a:solidFill>
                <a:srgbClr val="ffffff"/>
              </a:solidFill>
              <a:latin typeface="Arial"/>
            </a:endParaRPr>
          </a:p>
          <a:p>
            <a:pPr lvl="1" marL="743040" indent="-285840">
              <a:lnSpc>
                <a:spcPct val="80000"/>
              </a:lnSpc>
              <a:spcBef>
                <a:spcPts val="499"/>
              </a:spcBef>
              <a:buClr>
                <a:srgbClr val="60897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ways of controlling/preventing harmful effects of human activities to the environment?</a:t>
            </a:r>
            <a:endParaRPr b="0" lang="en-US" sz="2000" spc="-1" strike="noStrike">
              <a:solidFill>
                <a:srgbClr val="ffffff"/>
              </a:solidFill>
              <a:latin typeface="Arial"/>
            </a:endParaRPr>
          </a:p>
          <a:p>
            <a:pPr lvl="1" marL="743040" indent="-285840">
              <a:lnSpc>
                <a:spcPct val="80000"/>
              </a:lnSpc>
              <a:spcBef>
                <a:spcPts val="499"/>
              </a:spcBef>
              <a:buClr>
                <a:srgbClr val="60897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he possible move or step that you can do to help preserve the environment?</a:t>
            </a:r>
            <a:endParaRPr b="0" lang="en-US" sz="2000" spc="-1" strike="noStrike">
              <a:solidFill>
                <a:srgbClr val="ffffff"/>
              </a:solidFill>
              <a:latin typeface="Arial"/>
            </a:endParaRPr>
          </a:p>
          <a:p>
            <a:pPr lvl="1" marL="743040" indent="-285840">
              <a:lnSpc>
                <a:spcPct val="80000"/>
              </a:lnSpc>
              <a:spcBef>
                <a:spcPts val="499"/>
              </a:spcBef>
              <a:buClr>
                <a:srgbClr val="60897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ways on preserving/conserving balance life in eco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jectives </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ake a Brochure showing the effects of undesirable human activities in our ecosystem</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velop student’s creativity in doing a multimedia presentation.</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nhance collaborative skills among students</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able to share thoughts and ideas regarding on how to prevent harmful human activities to our environment</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sensitive on the different problems happening in our environment</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responsive of such problems in a way of thinking possible solution on the probl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oals for the students</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students will be able to:</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ays on preventing harmful effects of human activities to the environment</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rmine some of the human activities that causes imbalance in the ecosyst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some human activities that disrupt the cycle in an ecosyst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r that some activities of people animals disrupt the balance of life in ecosyst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the harmful effects of certain activities of humans on a more complex ecosyst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activities that will address to the probl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st  Century Skills:</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CT Literacy</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reativity and innovative skill</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reative think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oal to my self</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able to guide the students in every step they are going trough in their journey towards their proj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more resourceful to make my every lesson a productive o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01:26:19Z</dcterms:created>
  <dc:creator>Student's</dc:creator>
  <dc:description/>
  <dc:language>en-US</dc:language>
  <cp:lastModifiedBy>Student's</cp:lastModifiedBy>
  <dcterms:modified xsi:type="dcterms:W3CDTF">2011-01-20T02:09:51Z</dcterms:modified>
  <cp:revision>6</cp:revision>
  <dc:subject/>
  <dc:title>A journey to the preservation of balance Ecosystem</dc:title>
</cp:coreProperties>
</file>